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9FD4-CBB8-45C0-BE57-18DA0A7E9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7077-6C7F-4CB8-8377-40FF978DE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2A2E-BD79-4715-A554-B6FDE921F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EF94-30A1-4078-8DE2-ECC251B79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AB297-104B-4BE7-BA80-06F183AF3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E9CEC-4279-4F9B-B7AF-3291FF47A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AB1D8-F91C-48EB-8095-88B2A7363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BA507-F231-481A-B2D6-79F6FFE46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70FDD-46E2-4F85-A2A8-18D4091E1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3214E-9D97-4052-9655-A0D18E040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AB37E-B022-4C13-A72F-6C1A71D4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4B8F-BE18-465E-92BC-460F87E56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AE2BF-22F0-45C9-9B9C-CA469F18D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BC70F-8B8E-449E-B843-C8BF8E6D0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3A2E0-BE2F-4DE0-87B0-6FDF4FF4E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B1CFA-BEFA-4B41-BEAF-7961DA695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0DC84-D64A-4D96-8023-5B71A8C7E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A48786-2D49-4221-A6E6-2FCDC83AA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F8ADDC-0BD6-4500-8C41-05B5E0250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FC264F-FB31-4993-A3FF-C5554FC6C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A853AD-90DB-4F8A-BED7-E587A9C2D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8E118C-2265-4B1A-84A9-5BA9FF041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561E-1D20-4E5A-8CF1-7E3D820E7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646B38-D673-4EE1-A66E-3E912B600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946E7E-880D-4DBC-9A2F-EEC1C1534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DDDE17-E98C-4552-AA76-DFF1ECBA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2B5F86-E233-444A-B08C-BC4687CE0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750A34-482B-46E2-9406-01CB9D81D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E31747-97F4-458C-842C-E205229FE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468D62-16C7-4282-882E-4FA192C72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3F164-9C0F-4B4A-B155-4C29A7D0B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7F429-C410-49F0-B6A8-7BE0DE4CC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AB4BA-1570-4ED0-A866-31BF7714C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B602-DCA9-4E05-9095-909BEAAB4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9545E-9F04-4651-BBAF-F44176BE2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D12F8D-CB38-4DEB-9964-2F28954DB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6C697-1069-4913-A048-31F0A18FC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AB941-E4E8-43C7-AF04-30F729B77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8E186-C301-4D47-8824-D5B4A47FB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984F4-3ADE-4385-91D0-FEC2082A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CB8F7-D241-42FC-AD66-DBA7A94BF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F2BE0-687C-4A66-A6C1-024609357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B3F26-6BDB-4B30-A71C-73EB2684C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7476-7300-4420-8C9B-541A2C4D5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044E-B6A6-42A6-96F9-7B302425E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08A0-A059-4F1B-8784-3017CC97C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3DCD-C289-474C-B57C-A0B579DF6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33BB-22FA-4245-A1A4-B9F256E7F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080" cy="7116840"/>
            <a:chOff x="-567360" y="0"/>
            <a:chExt cx="10459080" cy="711684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552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552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552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508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3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800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736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496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4104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56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188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3032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428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796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6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336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28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32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32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440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4621E-3F0B-478A-97D0-9EF050F2D016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62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63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64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66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67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68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7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72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73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74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75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76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77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78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79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80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81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82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83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84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85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86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121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122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FD8B9-6572-4E70-9D93-39EC75EAB887}" type="slidenum">
              <a:rPr b="0" lang="en-US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62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63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64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66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67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68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7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72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73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74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75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76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77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78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79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80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81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82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83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84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85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86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B66DC-03E9-4BD8-A93B-A3E25FB1BBBE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62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63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64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66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67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68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7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72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73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74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75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76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77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78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79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80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81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82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83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84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85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86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21F70-3EBA-4389-A931-7B4EAF9E758C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33640" y="270792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4c600"/>
                </a:solidFill>
                <a:latin typeface="Century Gothic"/>
              </a:rPr>
              <a:t>YOU need a JOURNAL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734000" y="4420800"/>
            <a:ext cx="330984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242"/>
                </a:solidFill>
                <a:latin typeface="Century Gothic"/>
              </a:rPr>
              <a:t>Journals/Magazines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Journal/magazin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1042560" y="2323800"/>
            <a:ext cx="6777000" cy="35082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2" descr=""/>
          <p:cNvPicPr/>
          <p:nvPr/>
        </p:nvPicPr>
        <p:blipFill>
          <a:blip r:embed="rId2"/>
          <a:stretch/>
        </p:blipFill>
        <p:spPr>
          <a:xfrm>
            <a:off x="0" y="-457200"/>
            <a:ext cx="8610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Where are these journals?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Power Library: log on through the Library Link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Science Full Text Select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Omnifile Select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On the search screen select the full text feature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Cannot be used from home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Citations provided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Where are these journals?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Britannica Online K-12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Can be used from home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Citations NOT provided. Must be done by hand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Look in the “Expand your research” box after you perform a database search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It is located on the right part of the page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3T18:04:06Z</dcterms:created>
  <dc:creator>Albright, Janice</dc:creator>
  <dc:description/>
  <dc:language>en-US</dc:language>
  <cp:lastModifiedBy>Janice</cp:lastModifiedBy>
  <dcterms:modified xsi:type="dcterms:W3CDTF">2012-05-07T10:03:54Z</dcterms:modified>
  <cp:revision>7</cp:revision>
  <dc:subject/>
  <dc:title>YOU need a JOURNAL</dc:title>
</cp:coreProperties>
</file>